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F643-28D9-4232-A79C-E1645661C50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CD7-2731-481C-9A3D-2C8C9A6CD1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926E-007B-49DE-8D4E-5C204911EDD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D41-E585-43C0-B7E4-F74353FCF7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C48-DC80-4C03-B86D-4DE910A35EF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322-86AE-4D6D-B430-16215F88710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1BC-7AE1-4F56-84A7-C737DF4E815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194-B01D-47DC-9A14-4992C747445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A20-6036-4418-9678-BFF6E0663EC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AA3-EFC6-4068-AE70-BDD7105BB5C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D15-4F69-44B8-9CBA-765212A7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34C-340B-47AA-A22F-F61B7BA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716-C8F9-4506-8873-49F5EBAF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610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610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0E1-805E-4E78-AFD6-D1BE2E69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A7D-01F2-4AD4-A5A7-E287004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39B-AA4F-4A91-A342-7C85AB07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D9D-049C-4CC9-94D7-583E47B3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3A3-A2F3-4FF8-A931-F6D1C69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AA3-5744-4643-8DEE-817D550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C3B-A332-4F06-81DC-19D9004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1BD-A0F3-443F-B059-1C33673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865-CFA9-4502-8271-9E81C52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2B35-77B4-492B-A5D9-FA13BD5F5E6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" name="Rectangle 9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5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38"/>
          <p:cNvGrpSpPr/>
          <p:nvPr/>
        </p:nvGrpSpPr>
        <p:grpSpPr>
          <a:xfrm>
            <a:off x="523800" y="-100080"/>
            <a:ext cx="1815840" cy="1728720"/>
            <a:chOff x="523800" y="-100080"/>
            <a:chExt cx="1815840" cy="1728720"/>
          </a:xfrm>
        </p:grpSpPr>
        <p:sp>
          <p:nvSpPr>
            <p:cNvPr id="36" name="Rectangle 39"/>
            <p:cNvSpPr/>
            <p:nvPr/>
          </p:nvSpPr>
          <p:spPr>
            <a:xfrm>
              <a:off x="1410840" y="-100080"/>
              <a:ext cx="928800" cy="1728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40"/>
            <p:cNvGrpSpPr/>
            <p:nvPr/>
          </p:nvGrpSpPr>
          <p:grpSpPr>
            <a:xfrm>
              <a:off x="523800" y="50400"/>
              <a:ext cx="1483920" cy="1387440"/>
              <a:chOff x="523800" y="50400"/>
              <a:chExt cx="1483920" cy="1387440"/>
            </a:xfrm>
          </p:grpSpPr>
          <p:grpSp>
            <p:nvGrpSpPr>
              <p:cNvPr id="38" name="Group 41"/>
              <p:cNvGrpSpPr/>
              <p:nvPr/>
            </p:nvGrpSpPr>
            <p:grpSpPr>
              <a:xfrm>
                <a:off x="523800" y="50400"/>
                <a:ext cx="1483920" cy="1387440"/>
                <a:chOff x="523800" y="50400"/>
                <a:chExt cx="1483920" cy="1387440"/>
              </a:xfrm>
            </p:grpSpPr>
            <p:grpSp>
              <p:nvGrpSpPr>
                <p:cNvPr id="39" name="Group 42"/>
                <p:cNvGrpSpPr/>
                <p:nvPr/>
              </p:nvGrpSpPr>
              <p:grpSpPr>
                <a:xfrm>
                  <a:off x="523800" y="50400"/>
                  <a:ext cx="1483920" cy="1387440"/>
                  <a:chOff x="523800" y="50400"/>
                  <a:chExt cx="1483920" cy="1387440"/>
                </a:xfrm>
              </p:grpSpPr>
              <p:sp>
                <p:nvSpPr>
                  <p:cNvPr id="40" name="Rectangle 43"/>
                  <p:cNvSpPr/>
                  <p:nvPr/>
                </p:nvSpPr>
                <p:spPr>
                  <a:xfrm>
                    <a:off x="527760" y="12222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Rectangle 44"/>
                  <p:cNvSpPr/>
                  <p:nvPr/>
                </p:nvSpPr>
                <p:spPr>
                  <a:xfrm>
                    <a:off x="527760" y="504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AutoShape 45"/>
                  <p:cNvSpPr/>
                  <p:nvPr/>
                </p:nvSpPr>
                <p:spPr>
                  <a:xfrm flipV="1" rot="5400000">
                    <a:off x="-21240" y="60840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AutoShape 46"/>
                  <p:cNvSpPr/>
                  <p:nvPr/>
                </p:nvSpPr>
                <p:spPr>
                  <a:xfrm flipH="1" flipV="1" rot="16200000">
                    <a:off x="1207080" y="59544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" name="Rectangle 47"/>
                <p:cNvSpPr/>
                <p:nvPr/>
              </p:nvSpPr>
              <p:spPr>
                <a:xfrm>
                  <a:off x="665280" y="175680"/>
                  <a:ext cx="1203840" cy="113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Oval 48"/>
                <p:cNvSpPr/>
                <p:nvPr/>
              </p:nvSpPr>
              <p:spPr>
                <a:xfrm>
                  <a:off x="734040" y="253080"/>
                  <a:ext cx="1061640" cy="9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Oval 49"/>
                <p:cNvSpPr/>
                <p:nvPr/>
              </p:nvSpPr>
              <p:spPr>
                <a:xfrm>
                  <a:off x="837360" y="345960"/>
                  <a:ext cx="855360" cy="79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Oval 50"/>
                <p:cNvSpPr/>
                <p:nvPr/>
              </p:nvSpPr>
              <p:spPr>
                <a:xfrm>
                  <a:off x="928080" y="425880"/>
                  <a:ext cx="676440" cy="63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1"/>
              <p:cNvGrpSpPr/>
              <p:nvPr/>
            </p:nvGrpSpPr>
            <p:grpSpPr>
              <a:xfrm>
                <a:off x="942120" y="482400"/>
                <a:ext cx="614520" cy="525960"/>
                <a:chOff x="942120" y="482400"/>
                <a:chExt cx="614520" cy="525960"/>
              </a:xfrm>
            </p:grpSpPr>
            <p:sp>
              <p:nvSpPr>
                <p:cNvPr id="49" name="Arc 52"/>
                <p:cNvSpPr/>
                <p:nvPr/>
              </p:nvSpPr>
              <p:spPr>
                <a:xfrm>
                  <a:off x="124956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Arc 53"/>
                <p:cNvSpPr/>
                <p:nvPr/>
              </p:nvSpPr>
              <p:spPr>
                <a:xfrm>
                  <a:off x="120960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AutoShape 54"/>
                <p:cNvSpPr/>
                <p:nvPr/>
              </p:nvSpPr>
              <p:spPr>
                <a:xfrm>
                  <a:off x="1167120" y="939240"/>
                  <a:ext cx="166680" cy="6912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5"/>
                <p:cNvSpPr/>
                <p:nvPr/>
              </p:nvSpPr>
              <p:spPr>
                <a:xfrm>
                  <a:off x="942120" y="641880"/>
                  <a:ext cx="30564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6"/>
                <p:cNvSpPr/>
                <p:nvPr/>
              </p:nvSpPr>
              <p:spPr>
                <a:xfrm>
                  <a:off x="1250640" y="641880"/>
                  <a:ext cx="30600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57"/>
                <p:cNvSpPr/>
                <p:nvPr/>
              </p:nvSpPr>
              <p:spPr>
                <a:xfrm>
                  <a:off x="1209600" y="482400"/>
                  <a:ext cx="79200" cy="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160" bIns="2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35040" y="189000"/>
            <a:ext cx="1293840" cy="11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CES WITH THE XO I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5759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770px-LaptopOLPC_a"/>
          <p:cNvPicPr/>
          <p:nvPr/>
        </p:nvPicPr>
        <p:blipFill>
          <a:blip r:embed="rId1"/>
          <a:stretch/>
        </p:blipFill>
        <p:spPr>
          <a:xfrm>
            <a:off x="2268360" y="1557360"/>
            <a:ext cx="54738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e-assessment and post-assessment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of pre-teacher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eacher assessment to be administered at the end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f 4 teachers in the following aspect of technology in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s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with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-base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pplications on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teacher and classroom dynamics as regards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and maintenance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up of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electric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ing for network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wireless net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configuration of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creation for parents/guar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behind the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parent 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, maintenance  and security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ng of signature sheet for parents to acknowledge receipt of the laptop by the 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buary,2008 (day of deployment) in K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pupils were given laptops on the basis of one laptop per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laptops were given to the class teacher and the headmi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identify their laptop by the unique colours and serial numbers assign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aptop registered to the server by mac-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in Bonsaaso - four months after Kanda due to power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visit to the school to provide suppor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the XO in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of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ing of net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of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connectiv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problems, et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st/unavailability of  Internet conne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igitized content align with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for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hy  from some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XO IN THE GHANAIAN CLASS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ime of children to touc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ays for self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veiling of hidden talent among pup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 and numeracy skill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eacher abreast with new ways of teaching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hours of learning for pupils, punctuality and decreased absentee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effect o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period of training for teachers on integration of XO in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unity awareness on OLPC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content  or software should be given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technical training for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tion of keyboard for Ghanaian 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people selected  from below-mention minis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TI- 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F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zanne Buchele – Fulbright-ASHESI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so far with beta version of the 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error (technica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ptop screen divided into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mouse sensitivity problems as a result of over scru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 running down in short inter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ENES FROM TH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DSCN1663"/>
          <p:cNvPicPr/>
          <p:nvPr/>
        </p:nvPicPr>
        <p:blipFill>
          <a:blip r:embed="rId1"/>
          <a:stretch/>
        </p:blipFill>
        <p:spPr>
          <a:xfrm>
            <a:off x="1763640" y="1628640"/>
            <a:ext cx="676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PILS ENVIOUS ABOUT THEIR FRIENDS USING 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DSCN1666"/>
          <p:cNvPicPr/>
          <p:nvPr/>
        </p:nvPicPr>
        <p:blipFill>
          <a:blip r:embed="rId1"/>
          <a:stretch/>
        </p:blipFill>
        <p:spPr>
          <a:xfrm>
            <a:off x="1547640" y="1700280"/>
            <a:ext cx="705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IES AND GENTLEMEN, 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TION OF IMPLEMENT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ve day country meeting of OLPC partner countries in Cambridge. Nov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OF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chools selected from tw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Primary  in Accra ( pupils from poor h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saasso primary in Ashanti Region (very remote village  with un-motorable road, no social ame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thering in school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Number of pupils 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39), Bonsaaso (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Total schools enro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(213 ) , Bonsaaso (25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Children with previous contact wit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 5), Bonsaaso (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contact points withi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Explained initiative to the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and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block and storage f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classroom furn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curity features that have to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ojec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objectives of the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ected outcomes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five OLPC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eneral work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scope of the pilot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cost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=GH¢5,0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nsaaso =GH¢10,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 of pilot funded by OLPC Inc. and Government of Gh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3:00:08Z</dcterms:created>
  <dc:creator>newuser</dc:creator>
  <dc:description/>
  <dc:language>en-US</dc:language>
  <cp:lastModifiedBy> </cp:lastModifiedBy>
  <dcterms:modified xsi:type="dcterms:W3CDTF">2008-12-16T21:29:46Z</dcterms:modified>
  <cp:revision>87</cp:revision>
  <dc:subject/>
  <dc:title>MANAGING LESSONS  Emmanuel K. Dadebo</dc:title>
</cp:coreProperties>
</file>